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7D21-B35A-453C-9127-7E8F9F80CD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17982-5B26-4369-AEB1-5201B50A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86776-C3B7-4620-AF51-5C6CBB90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508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7160" y="175212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508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7160" y="4020840"/>
            <a:ext cx="247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8E47-2FE1-4CF6-B9C2-19718C5CAD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BDF9-F577-4B86-A41A-9A921DB0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5C7C4-2CD2-48C2-8278-8F81E698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ED092-E119-4FD1-9296-7097B152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5BED-1844-48D1-B6BE-6BC08BC9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D3719-E287-48F6-B481-B7004FBB4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1ED31-7582-4FC2-B564-5ABFD229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6800" y="402084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95B2-6675-42C1-B626-FBF8A3C4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6800" y="1752120"/>
            <a:ext cx="3755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6960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15D1A-AE94-4E68-A727-5AEE8ABB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4c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1002d"/>
              </a:buClr>
              <a:buSzPct val="80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d1002d"/>
              </a:buClr>
              <a:buSzPct val="75000"/>
              <a:buFont typeface="Web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d1002d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d1002d"/>
              </a:buClr>
              <a:buSzPct val="7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962160" y="647712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EDF9-06D7-4160-B3B9-8897B3809328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10" descr="bande"/>
          <p:cNvPicPr/>
          <p:nvPr/>
        </p:nvPicPr>
        <p:blipFill>
          <a:blip r:embed="rId2"/>
          <a:stretch/>
        </p:blipFill>
        <p:spPr>
          <a:xfrm>
            <a:off x="0" y="0"/>
            <a:ext cx="1066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LE PRINCIPE DE PROPORTIONNALITE</a:t>
            </a:r>
            <a:endParaRPr b="1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DISTI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ROPORTIONNAL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RECA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214720" y="2220840"/>
            <a:ext cx="64800" cy="2351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822320" y="4572000"/>
            <a:ext cx="785880" cy="6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2320" bIns="22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 rot="20130000">
            <a:off x="944640" y="2107800"/>
            <a:ext cx="2682720" cy="65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>
            <a:off x="1084320" y="2708280"/>
            <a:ext cx="0" cy="507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3484440" y="1573200"/>
            <a:ext cx="0" cy="44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10880" y="3300480"/>
            <a:ext cx="2012040" cy="844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808080"/>
                </a:solidFill>
                <a:latin typeface="Garamond"/>
                <a:ea typeface="Arial"/>
              </a:rPr>
              <a:t>AVANTA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808080"/>
                </a:solidFill>
                <a:latin typeface="Garamond"/>
                <a:ea typeface="Arial"/>
              </a:rPr>
              <a:t>MILITAI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714760" y="2038320"/>
            <a:ext cx="1585800" cy="508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Garamond"/>
                <a:ea typeface="Arial"/>
              </a:rPr>
              <a:t>DOMM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Garamond"/>
                <a:ea typeface="Arial"/>
              </a:rPr>
              <a:t>COLLATERA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5881680" y="4508640"/>
            <a:ext cx="784080" cy="63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2320" bIns="22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6273720" y="2093760"/>
            <a:ext cx="65160" cy="241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 rot="1203600">
            <a:off x="5095440" y="2093760"/>
            <a:ext cx="2684520" cy="65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5160960" y="1712880"/>
            <a:ext cx="0" cy="44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17"/>
          <p:cNvSpPr/>
          <p:nvPr/>
        </p:nvSpPr>
        <p:spPr>
          <a:xfrm>
            <a:off x="7713720" y="2602080"/>
            <a:ext cx="0" cy="44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6515640" y="3048120"/>
            <a:ext cx="2626200" cy="844200"/>
          </a:xfrm>
          <a:prstGeom prst="rect">
            <a:avLst/>
          </a:prstGeom>
          <a:solidFill>
            <a:srgbClr val="f41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000000"/>
                </a:solidFill>
                <a:latin typeface="Garamond"/>
                <a:ea typeface="Arial"/>
              </a:rPr>
              <a:t>DOMMAG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000000"/>
                </a:solidFill>
                <a:latin typeface="Garamond"/>
                <a:ea typeface="Arial"/>
              </a:rPr>
              <a:t>COLLATERAUX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4655520" y="2158920"/>
            <a:ext cx="1201320" cy="508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Garamond"/>
                <a:ea typeface="Arial"/>
              </a:rPr>
              <a:t>AVANT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ffffff"/>
                </a:solidFill>
                <a:latin typeface="Garamond"/>
                <a:ea typeface="Arial"/>
              </a:rPr>
              <a:t>MILITA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4440240" y="1413000"/>
            <a:ext cx="0" cy="5400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1644120" y="5270400"/>
            <a:ext cx="1123560" cy="676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3900" spc="-1" strike="noStrike">
                <a:solidFill>
                  <a:srgbClr val="808080"/>
                </a:solidFill>
                <a:latin typeface="Garamond"/>
                <a:ea typeface="Arial"/>
              </a:rPr>
              <a:t>OUI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5778360" y="5208480"/>
            <a:ext cx="1335240" cy="676800"/>
          </a:xfrm>
          <a:prstGeom prst="rect">
            <a:avLst/>
          </a:prstGeom>
          <a:solidFill>
            <a:srgbClr val="f41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3900" spc="-1" strike="noStrike">
                <a:solidFill>
                  <a:srgbClr val="000000"/>
                </a:solidFill>
                <a:latin typeface="Garamond"/>
                <a:ea typeface="Arial"/>
              </a:rPr>
              <a:t>N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1835280" y="260280"/>
            <a:ext cx="648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ncipe de proportionna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4c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D0DA-EA1E-4DB0-A531-B6267366C4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001B"/>
          <p:cNvPicPr/>
          <p:nvPr/>
        </p:nvPicPr>
        <p:blipFill>
          <a:blip r:embed="rId1"/>
          <a:stretch/>
        </p:blipFill>
        <p:spPr>
          <a:xfrm>
            <a:off x="1773360" y="1752480"/>
            <a:ext cx="6433920" cy="43434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7"/>
          <p:cNvSpPr/>
          <p:nvPr/>
        </p:nvSpPr>
        <p:spPr>
          <a:xfrm>
            <a:off x="3635280" y="3741840"/>
            <a:ext cx="324180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808080"/>
                </a:solidFill>
                <a:latin typeface="Times New Roman"/>
              </a:rPr>
              <a:t>légitime 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835280" y="260280"/>
            <a:ext cx="648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ncipe de proportionna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destruction massive"/>
          <p:cNvPicPr/>
          <p:nvPr/>
        </p:nvPicPr>
        <p:blipFill>
          <a:blip r:embed="rId1"/>
          <a:stretch/>
        </p:blipFill>
        <p:spPr>
          <a:xfrm>
            <a:off x="1403280" y="1700280"/>
            <a:ext cx="7345440" cy="4654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1835280" y="260280"/>
            <a:ext cx="648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ncipe de proportionna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v-p-bo-e-00090"/>
          <p:cNvPicPr/>
          <p:nvPr/>
        </p:nvPicPr>
        <p:blipFill>
          <a:blip r:embed="rId1"/>
          <a:stretch/>
        </p:blipFill>
        <p:spPr>
          <a:xfrm>
            <a:off x="1103400" y="1273320"/>
            <a:ext cx="7572240" cy="4903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1835280" y="260280"/>
            <a:ext cx="648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ncipe de proportionna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12"/>
          <p:cNvSpPr/>
          <p:nvPr/>
        </p:nvSpPr>
        <p:spPr>
          <a:xfrm>
            <a:off x="422640" y="2987640"/>
            <a:ext cx="2056320" cy="2093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FONCER SU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LE RHIN 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LA RUH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ET METTR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FIN A L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808080"/>
                </a:solidFill>
                <a:latin typeface="Garamond"/>
                <a:ea typeface="Arial"/>
              </a:rPr>
              <a:t>GUER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ZoneTexte 4"/>
          <p:cNvSpPr/>
          <p:nvPr/>
        </p:nvSpPr>
        <p:spPr>
          <a:xfrm>
            <a:off x="-401760" y="1790640"/>
            <a:ext cx="910620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Garamond"/>
                <a:ea typeface="Arial"/>
              </a:rPr>
              <a:t>De juin à novembre 1944, les bombardements alliés sur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500" spc="-1" strike="noStrike">
                <a:solidFill>
                  <a:srgbClr val="ffffff"/>
                </a:solidFill>
                <a:latin typeface="Garamond"/>
                <a:ea typeface="Arial"/>
              </a:rPr>
              <a:t>l'infrastructure de la France occupé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662280" y="5697360"/>
            <a:ext cx="785880" cy="63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2680" bIns="22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052880" y="3365640"/>
            <a:ext cx="65160" cy="2350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 rot="20208000">
            <a:off x="2787480" y="3308040"/>
            <a:ext cx="2684520" cy="65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24120" bIns="24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882880" y="3807000"/>
            <a:ext cx="0" cy="509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5351400" y="2862360"/>
            <a:ext cx="0" cy="44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950120" y="4311720"/>
            <a:ext cx="1954080" cy="844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808080"/>
                </a:solidFill>
                <a:latin typeface="Garamond"/>
                <a:ea typeface="Arial"/>
              </a:rPr>
              <a:t>NECESSI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2500" spc="-1" strike="noStrike">
                <a:solidFill>
                  <a:srgbClr val="808080"/>
                </a:solidFill>
                <a:latin typeface="Garamond"/>
                <a:ea typeface="Arial"/>
              </a:rPr>
              <a:t>MILITAI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572000" y="3303720"/>
            <a:ext cx="1585800" cy="508680"/>
          </a:xfrm>
          <a:prstGeom prst="rect">
            <a:avLst/>
          </a:prstGeom>
          <a:solidFill>
            <a:srgbClr val="f41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Garamond"/>
                <a:ea typeface="Arial"/>
              </a:rPr>
              <a:t>DOMM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Garamond"/>
                <a:ea typeface="Arial"/>
              </a:rPr>
              <a:t>COLLATERA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ZoneTexte 13"/>
          <p:cNvSpPr/>
          <p:nvPr/>
        </p:nvSpPr>
        <p:spPr>
          <a:xfrm>
            <a:off x="6326280" y="2798640"/>
            <a:ext cx="2597040" cy="3769200"/>
          </a:xfrm>
          <a:prstGeom prst="rect">
            <a:avLst/>
          </a:prstGeom>
          <a:solidFill>
            <a:srgbClr val="ff0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Garamond"/>
                <a:ea typeface="Arial"/>
              </a:rPr>
              <a:t>CIVILS </a:t>
            </a: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(beaucoup d'enfan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TUES : 3.1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BLESSES: 5.22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 u="sng">
                <a:solidFill>
                  <a:srgbClr val="000000"/>
                </a:solidFill>
                <a:uFillTx/>
                <a:latin typeface="Garamond"/>
                <a:ea typeface="Arial"/>
              </a:rPr>
              <a:t>DETRU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HOPITAUX : 2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EGLISES : 4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ECOLES : 11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Garamond"/>
                <a:ea typeface="Arial"/>
              </a:rPr>
              <a:t>MAISONS : 31.17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ZoneTexte 15"/>
          <p:cNvSpPr/>
          <p:nvPr/>
        </p:nvSpPr>
        <p:spPr>
          <a:xfrm>
            <a:off x="1260360" y="5950080"/>
            <a:ext cx="7704360" cy="13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Garamond"/>
                <a:ea typeface="Arial"/>
              </a:rPr>
              <a:t>Selon vous, est-ce proportionnel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835280" y="260280"/>
            <a:ext cx="648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d1002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incipe de proportionnal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08:58:17Z</dcterms:created>
  <dc:creator>CICR</dc:creator>
  <dc:description/>
  <dc:language>en-US</dc:language>
  <cp:lastModifiedBy>ICRC</cp:lastModifiedBy>
  <dcterms:modified xsi:type="dcterms:W3CDTF">2013-07-16T16:18:13Z</dcterms:modified>
  <cp:revision>89</cp:revision>
  <dc:subject/>
  <dc:title>International Committee  of the Red Cross</dc:title>
</cp:coreProperties>
</file>